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DDD-8C5D-46F2-81B3-DCC642DF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0C4-E85D-4FC1-A888-13D565AE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020-98E6-462E-81B3-40334863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E44-BA7D-4833-A6BD-8A445FEB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5F0-D40D-419F-B83C-27649436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215-A3B4-4233-9BC6-8B53CC94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FDE-7864-4B0D-8618-EB112FAD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87A-4A8D-4BBD-BBC1-E8B9F325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368-2E60-4AD7-8E4D-F0A58BAB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D99-3B12-42B1-ABE6-9D93A112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26C-0907-485C-B64D-EBE7503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F4D-F434-42C0-9238-2C2FF5AA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9733-7CE2-41AB-A572-10755EAE3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 D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ccharomy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om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uild with 43,426 papers, 44,690 abstracts and 3.2 million ke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port textpresso to a DBMS (mysql 5.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4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st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0.02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LAT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fi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data in 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980" t="14814" r="3921" b="5556"/>
          <a:stretch/>
        </p:blipFill>
        <p:spPr>
          <a:xfrm>
            <a:off x="457200" y="1752480"/>
            <a:ext cx="8458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7:36:52Z</dcterms:created>
  <dc:creator>Stan Dong</dc:creator>
  <dc:description/>
  <dc:language>en-US</dc:language>
  <cp:lastModifiedBy>Qing Dong</cp:lastModifiedBy>
  <dcterms:modified xsi:type="dcterms:W3CDTF">2006-06-28T01:54:43Z</dcterms:modified>
  <cp:revision>7</cp:revision>
  <dc:subject/>
  <dc:title>GMOD Meeting</dc:title>
</cp:coreProperties>
</file>